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20BD-94E6-40DF-A95F-FA1FBB4C78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DA1E-D367-4504-BC9F-A64DC408D5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6597-8865-4318-9C82-00A4C4C657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BD2A-3144-472E-A017-3F8B1CA6FC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3C6B-D936-48AD-8D5A-AA27DD2C04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000A-1402-4B62-9394-0B9BDB3E46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89FB-D4E3-4EF3-B831-78297587DC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CA54-E68F-40C7-B5C4-62D41BB246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4FB0-5486-4EF3-AB3F-D54708C8A2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EB08-0440-41E4-9358-051DF81BAF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9A7-7909-4A0E-8CF9-A07D348882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6C8-E1BF-485A-96EA-1FF9C1F2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59A-DF65-4AC0-98BD-B71CAD93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FF9-35E7-47D6-B923-E264A5C8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8F1-1A52-43C9-A530-710CB304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48F-8975-44F7-940A-1870880E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332-49CC-4746-A4B4-2A5BC403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56B-F90E-4B6E-9E7E-6526F149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C08-C8F1-4379-BBD8-65F5CACA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CA0-26A9-466F-87B3-C7B5D92B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49C-05EF-4B13-AAAC-BC532AE7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8C1-9FC0-4C9E-9114-B46FFD5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68F-5BFD-412D-B858-F34E6D7E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1A99-0F96-4F07-956C-7E0DB530A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-6480" y="2157480"/>
            <a:ext cx="9156960" cy="2066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logo clear.png"/>
          <p:cNvPicPr/>
          <p:nvPr/>
        </p:nvPicPr>
        <p:blipFill>
          <a:blip r:embed="rId2"/>
          <a:stretch/>
        </p:blipFill>
        <p:spPr>
          <a:xfrm>
            <a:off x="7286760" y="5072040"/>
            <a:ext cx="155736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5214960"/>
            <a:ext cx="82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This file contains photographs taken by Arthur Warrington Tho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This file is licensed under the Creative Commons Attribution ShareAlike 3.0 License. In short: you are free to share and make derivative works of the file under the conditions that you appropriately attribute it, and that you distribute it only under a license identical to this o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here is the Su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3"/>
          <p:cNvSpPr/>
          <p:nvPr/>
        </p:nvSpPr>
        <p:spPr>
          <a:xfrm>
            <a:off x="3286080" y="2071800"/>
            <a:ext cx="2643120" cy="2571480"/>
          </a:xfrm>
          <a:prstGeom prst="ellipse">
            <a:avLst/>
          </a:prstGeom>
          <a:solidFill>
            <a:srgbClr val="262626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New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095920" y="4786200"/>
            <a:ext cx="527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Sun is behind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221480" y="1071720"/>
            <a:ext cx="2279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Sunligh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0" descr="out_of_page_arrow.png"/>
          <p:cNvPicPr/>
          <p:nvPr/>
        </p:nvPicPr>
        <p:blipFill>
          <a:blip r:embed="rId1"/>
          <a:srcRect l="6264" t="8885" r="6011" b="15510"/>
          <a:stretch/>
        </p:blipFill>
        <p:spPr>
          <a:xfrm>
            <a:off x="3643200" y="857160"/>
            <a:ext cx="2000520" cy="12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here is the Su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crescent.jpg"/>
          <p:cNvPicPr/>
          <p:nvPr/>
        </p:nvPicPr>
        <p:blipFill>
          <a:blip r:embed="rId1"/>
          <a:stretch/>
        </p:blipFill>
        <p:spPr>
          <a:xfrm>
            <a:off x="2827440" y="1357200"/>
            <a:ext cx="3601800" cy="3602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863640" y="2571840"/>
            <a:ext cx="1284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Sun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2500200" y="5996160"/>
            <a:ext cx="4786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Crescent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bottom_right_arrow.png"/>
          <p:cNvPicPr/>
          <p:nvPr/>
        </p:nvPicPr>
        <p:blipFill>
          <a:blip r:embed="rId2"/>
          <a:srcRect l="38665" t="17820" r="15042" b="23186"/>
          <a:stretch/>
        </p:blipFill>
        <p:spPr>
          <a:xfrm>
            <a:off x="785880" y="3643200"/>
            <a:ext cx="246708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here is the Su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First Quarter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first-quarter-moon.jpg"/>
          <p:cNvPicPr/>
          <p:nvPr/>
        </p:nvPicPr>
        <p:blipFill>
          <a:blip r:embed="rId1"/>
          <a:srcRect l="4308" t="3169" r="9625" b="3779"/>
          <a:stretch/>
        </p:blipFill>
        <p:spPr>
          <a:xfrm rot="19357200">
            <a:off x="3159000" y="1652400"/>
            <a:ext cx="3183120" cy="2981160"/>
          </a:xfrm>
          <a:prstGeom prst="rect">
            <a:avLst/>
          </a:prstGeom>
          <a:ln w="0">
            <a:noFill/>
          </a:ln>
        </p:spPr>
      </p:pic>
      <p:sp>
        <p:nvSpPr>
          <p:cNvPr id="64" name="Down Arrow 24"/>
          <p:cNvSpPr/>
          <p:nvPr/>
        </p:nvSpPr>
        <p:spPr>
          <a:xfrm rot="16200000">
            <a:off x="1046160" y="2214360"/>
            <a:ext cx="1643040" cy="17859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cf00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650160" y="1285920"/>
            <a:ext cx="2279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Sunligh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here is the Su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axing Gibbous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2" descr="8daymoons.jpg"/>
          <p:cNvPicPr/>
          <p:nvPr/>
        </p:nvPicPr>
        <p:blipFill>
          <a:blip r:embed="rId1"/>
          <a:srcRect l="74221" t="-3398" r="0" b="0"/>
          <a:stretch/>
        </p:blipFill>
        <p:spPr>
          <a:xfrm rot="7612200">
            <a:off x="2668320" y="1668240"/>
            <a:ext cx="3992760" cy="367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bottom_right_arrow_gibbous.png"/>
          <p:cNvPicPr/>
          <p:nvPr/>
        </p:nvPicPr>
        <p:blipFill>
          <a:blip r:embed="rId2"/>
          <a:srcRect l="26261" t="25868" r="32994" b="21841"/>
          <a:stretch/>
        </p:blipFill>
        <p:spPr>
          <a:xfrm rot="7217400">
            <a:off x="825480" y="2622240"/>
            <a:ext cx="2143080" cy="1936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578880" y="1714680"/>
            <a:ext cx="2279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Sunligh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full2.jpg"/>
          <p:cNvPicPr/>
          <p:nvPr/>
        </p:nvPicPr>
        <p:blipFill>
          <a:blip r:embed="rId1"/>
          <a:stretch/>
        </p:blipFill>
        <p:spPr>
          <a:xfrm rot="14323200">
            <a:off x="2285280" y="1499040"/>
            <a:ext cx="5216400" cy="3478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here is the Su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Full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Into_page_arrow.png"/>
          <p:cNvPicPr/>
          <p:nvPr/>
        </p:nvPicPr>
        <p:blipFill>
          <a:blip r:embed="rId2"/>
          <a:srcRect l="5590" t="19158" r="5590" b="28544"/>
          <a:stretch/>
        </p:blipFill>
        <p:spPr>
          <a:xfrm>
            <a:off x="2428920" y="4572000"/>
            <a:ext cx="457200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Phase 6 of the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aning Gibbous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Down Arrow 9"/>
          <p:cNvSpPr/>
          <p:nvPr/>
        </p:nvSpPr>
        <p:spPr>
          <a:xfrm rot="5400000">
            <a:off x="6425640" y="2503440"/>
            <a:ext cx="1643040" cy="17859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wan_gibb.png"/>
          <p:cNvPicPr/>
          <p:nvPr/>
        </p:nvPicPr>
        <p:blipFill>
          <a:blip r:embed="rId1"/>
          <a:stretch/>
        </p:blipFill>
        <p:spPr>
          <a:xfrm>
            <a:off x="2857680" y="1571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bottom_right_arrow_gibbous.png"/>
          <p:cNvPicPr/>
          <p:nvPr/>
        </p:nvPicPr>
        <p:blipFill>
          <a:blip r:embed="rId2"/>
          <a:srcRect l="26261" t="25868" r="32994" b="21841"/>
          <a:stretch/>
        </p:blipFill>
        <p:spPr>
          <a:xfrm rot="18494400">
            <a:off x="6235200" y="2445120"/>
            <a:ext cx="21430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Phase 7 of the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Last Quarter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Down Arrow 13"/>
          <p:cNvSpPr/>
          <p:nvPr/>
        </p:nvSpPr>
        <p:spPr>
          <a:xfrm rot="5400000">
            <a:off x="6857640" y="2500200"/>
            <a:ext cx="1643040" cy="17859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wan_quarter.png"/>
          <p:cNvPicPr/>
          <p:nvPr/>
        </p:nvPicPr>
        <p:blipFill>
          <a:blip r:embed="rId1"/>
          <a:stretch/>
        </p:blipFill>
        <p:spPr>
          <a:xfrm>
            <a:off x="2481120" y="1143000"/>
            <a:ext cx="40719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Crescent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Phase 8 of the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9" descr="crescent.jpg"/>
          <p:cNvPicPr/>
          <p:nvPr/>
        </p:nvPicPr>
        <p:blipFill>
          <a:blip r:embed="rId1"/>
          <a:stretch/>
        </p:blipFill>
        <p:spPr>
          <a:xfrm>
            <a:off x="2357280" y="1285920"/>
            <a:ext cx="3673800" cy="367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bottom_right_arrow.png"/>
          <p:cNvPicPr/>
          <p:nvPr/>
        </p:nvPicPr>
        <p:blipFill>
          <a:blip r:embed="rId2"/>
          <a:srcRect l="16494" t="18300" r="37717" b="23186"/>
          <a:stretch/>
        </p:blipFill>
        <p:spPr>
          <a:xfrm>
            <a:off x="5222880" y="3929040"/>
            <a:ext cx="25383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2:05:18Z</dcterms:created>
  <dc:creator>Education</dc:creator>
  <dc:description/>
  <dc:language>en-US</dc:language>
  <cp:lastModifiedBy> </cp:lastModifiedBy>
  <dcterms:modified xsi:type="dcterms:W3CDTF">2010-03-11T23:49:18Z</dcterms:modified>
  <cp:revision>63</cp:revision>
  <dc:subject/>
  <dc:title>Slide 1</dc:title>
</cp:coreProperties>
</file>